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9A0B-0BE9-4B47-844C-159F3913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50F3-FAD7-4074-891D-4D2F4162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E779-2026-41CB-BE96-BDABDC97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DC73-D84F-4D58-BF5C-3988F6EA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41BC-28C6-4C1C-A9C1-E71A7F7D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ADF-AC10-4FAF-8E7F-3C5744A8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6B0C-46E9-486C-B256-96E19B75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0005-FEBF-425A-B578-391EB553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C7FE-B364-425C-9410-8AEEBCE8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0CDD-35C2-41DC-ACFE-AE125673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96CC-45E6-484E-92A2-9775DF1C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B30C-D29E-4ABA-937F-5ADBE1D1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0045-D1A2-4000-BF7E-8FD0991C3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esent Constraint on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12000"/>
          </a:blip>
          <a:srcRect l="1234" t="0" r="0" b="0"/>
          <a:stretch/>
        </p:blipFill>
        <p:spPr>
          <a:xfrm>
            <a:off x="1692360" y="1162080"/>
            <a:ext cx="5851440" cy="56959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5219640" y="3881520"/>
            <a:ext cx="2820960" cy="917640"/>
            <a:chOff x="5219640" y="3881520"/>
            <a:chExt cx="2820960" cy="917640"/>
          </a:xfrm>
        </p:grpSpPr>
        <p:sp>
          <p:nvSpPr>
            <p:cNvPr id="44" name=""/>
            <p:cNvSpPr/>
            <p:nvPr/>
          </p:nvSpPr>
          <p:spPr>
            <a:xfrm>
              <a:off x="5219640" y="4065480"/>
              <a:ext cx="5047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996520" y="388152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rmal Hierarc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219640" y="4614840"/>
              <a:ext cx="50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96160" y="443088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verted Hierarc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5205240" y="487692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32000" y="1374840"/>
            <a:ext cx="5753160" cy="5438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uture Constraint on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788000" y="3881520"/>
            <a:ext cx="2820960" cy="917640"/>
            <a:chOff x="4788000" y="3881520"/>
            <a:chExt cx="2820960" cy="917640"/>
          </a:xfrm>
        </p:grpSpPr>
        <p:sp>
          <p:nvSpPr>
            <p:cNvPr id="52" name=""/>
            <p:cNvSpPr/>
            <p:nvPr/>
          </p:nvSpPr>
          <p:spPr>
            <a:xfrm>
              <a:off x="4788000" y="4065480"/>
              <a:ext cx="5047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64880" y="388152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rmal Hierarc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88000" y="4614840"/>
              <a:ext cx="50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64520" y="443088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verted Hierarc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773600" y="487692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3960" y="5300640"/>
            <a:ext cx="21556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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~ 3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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~ 5%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Math1Mono"/>
                <a:ea typeface="Math1Mono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Math1Mono"/>
                <a:ea typeface="Math1Mono"/>
              </a:rPr>
              <a:t>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~ 5% </a:t>
            </a:r>
            <a:r>
              <a:rPr b="0" lang="en-US" sz="1800" spc="-1" strike="noStrike">
                <a:solidFill>
                  <a:srgbClr val="000000"/>
                </a:solidFill>
                <a:latin typeface="Math1Mono"/>
                <a:ea typeface="Math1Mono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Math1Mono"/>
                <a:ea typeface="Math1Mono"/>
              </a:rPr>
              <a:t>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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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9:55:53Z</dcterms:created>
  <dc:creator>J.E Campagne</dc:creator>
  <dc:description/>
  <dc:language>en-US</dc:language>
  <cp:lastModifiedBy>J.E Campagne</cp:lastModifiedBy>
  <dcterms:modified xsi:type="dcterms:W3CDTF">2005-07-28T13:21:47Z</dcterms:modified>
  <cp:revision>4</cp:revision>
  <dc:subject/>
  <dc:title>Present Constraint on mb, mbb &amp; S </dc:title>
</cp:coreProperties>
</file>